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CBB5F-6DD5-4643-A3C8-48C78A3CCD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52CC6-8CC8-45ED-AC7E-DFD2AB8E44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7F8F7-BD21-42F6-904C-170E59B376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200B8-F678-473B-ABFC-EFA33CCB81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0BA384-F449-41D1-802E-0A57E1748D9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BC16FC-B9BE-485B-B672-FF5D255C077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766AB2-9EB7-4BE7-94B1-F6B4F85C1A6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B72217-5BFF-4D36-8A31-4722C328095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966087-F6C4-4F39-B13E-31C3957BA8E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C475E9-23C5-452E-960E-8DA15CFF166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69B503-F99F-4F7C-B0D3-7D923B189A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515E0-2FEF-48A2-B946-D988D28FEC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053860-5104-40C9-98D8-38A3FFAA030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04A439-CF49-49FA-8150-DB73F61E205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CB4583-34F8-4510-9ED1-BEE9BF52BA9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A110BA-BB6B-4294-BCCD-4A78F4C7780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9B1CBD-86E5-4DD2-980D-C73DBC5545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92BF8-9B03-4FA4-8B6C-7D87922947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B9C6C-0774-4F75-909F-1C9261BE06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EDDAA-D2AA-4F2C-B189-8000E7A295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AC3C5-F5EE-453E-8434-0E68DAEF4B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B8A7F-CF67-4DD4-A988-F9DA0327AF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96771-B422-4A48-B28C-B775B586F9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7247B-33F5-448C-8EFE-D707B87DA9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577A1BF4-CA6D-4E56-B4DF-BE0D5E4D8DF9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6548ED92-010C-439B-BFFD-1CFDF303CEA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50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grpSp>
        <p:nvGrpSpPr>
          <p:cNvPr id="5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20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9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306011A6-7892-4ECF-A410-C1456693E4D0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FF99C2E7-CCD3-4C5A-B437-FBDF918091B6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soton.ac.uk/~cpd/anovas/datasets/" TargetMode="External"/><Relationship Id="rId2" Type="http://schemas.openxmlformats.org/officeDocument/2006/relationships/hyperlink" Target="http://imaging.mrc-cbu.cam.ac.uk/statswiki/FAQ/Doncaster" TargetMode="External"/><Relationship Id="rId3" Type="http://schemas.openxmlformats.org/officeDocument/2006/relationships/hyperlink" Target="http://www.albany.edu/faculty/rfh64/power/power.html" TargetMode="External"/><Relationship Id="rId4" Type="http://schemas.openxmlformats.org/officeDocument/2006/relationships/hyperlink" Target="http://www.aprendelo.com/rec/power-calculator.html" TargetMode="External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rField" TargetMode="Externa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8: SAMPLE SIZE DETERMINATION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th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be with you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power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bility to correctly detect real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1-P(wrongly concluding “no effect”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usually 80%; ideally 9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osting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one-tail instead of two-tail tes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parametric instead of non-parametric equival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ample siz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mallest interesting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ultivariate analyses (e.g. MANOVA) use fewe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cide smallest clinically important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tells us how many needed to reliably detect this effect or a larger on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r effects more difficult to det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quested in APA guidelin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-values can be misleading : e.g. chi-square highly sensitive to sample size; Earth is round, p&lt;0.0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s of effect siz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s: Minimum Number of sds between 2 means to be clinically usefu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amount explained in outcome to be clinically useful (correlation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sstab chi-squares: odds ratios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samples of size 10; Type I error = 0.0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0" name="Object 0"/>
          <p:cNvGraphicFramePr/>
          <p:nvPr/>
        </p:nvGraphicFramePr>
        <p:xfrm>
          <a:off x="457200" y="1703520"/>
          <a:ext cx="8228160" cy="45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03520"/>
                    <a:ext cx="822816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t-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le        Group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Sd         Diff/S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iffere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h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1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m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25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12.7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tio of discriminability and preci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e own judge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comparing two group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= group difference (=sid) / s.d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at is the smallest interesting difference in your expert opinion? (si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tain s.d. from previous work (can’t contro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1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nell Medical index (CMI) (Cohen, 199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ffee drinkers &gt; Non-Coffee drinker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id / CMI s.d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 = 3.5 (because CMI increases by 3.5 per person per decade)</a:t>
            </a:r>
            <a:r>
              <a:rPr b="0" lang="en-GB" sz="1600" spc="-1" strike="noStrike">
                <a:solidFill>
                  <a:srgbClr val="bababa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2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per (1/1000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001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.002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= .001/.002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hool ruler (1/16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5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1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 = .5/1 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rules of thumb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 (difference in s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VA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13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SS(Groups)____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=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13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S(Groups)+SS(W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gression: f-sq 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/ (1 -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also called eta-squar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dds Ratio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ntel-Haenszel pooled estimate available for 2xC tabl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[Phi = Sqrt(chi-square/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ff"/>
                </a:solidFill>
                <a:latin typeface="Verdana"/>
              </a:rPr>
              <a:t>Chi-square increases with 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hen,1988) used in G*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  medium lar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20      0.50    0.8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25    0.4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02      0.15    0.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quivalently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0.02  0.13   0.2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Haddock et al (1998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ar 1.0              &gt;3.0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39      2.28    3.74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x, 197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]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ample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eeded is in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of population 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large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conomic and ethical problem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small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risk failing to find a large effect e.g. group differe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le drawer proble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just enough to enable accurate detection (or pow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ke sure you take account of response rates: cancer sibling study: 222 possible to sample but 80% response rate and gender matched siblings will reduce sample past 120 need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por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1 v p2 (2x2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v 0.5 (2x1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v r2 (Fish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Cohen, 199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medium larg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2  0.50   0.65    0.78 (p1=0.4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   0.55   0.65    0.7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  0.10   0.29    0.46 (r2=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Key Featu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oice of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-tailed or Two-tail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sired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ype 1 error(chance of a false positiv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evaluation method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mogr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eeware/software on ww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 synta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bles (Look up by han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tient vs Control group: measure of spatial mem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om earlier work on memory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st interesting difference (sid)=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mon group standard deviation=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eciding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independent groups; continuous Normally distributed outcome meas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unpaired t-tes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mogr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aphical display in Altman (199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wo-tailed te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Effect Size=sid/memory s.d.=3/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ad off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Tot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 using a ruler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Nomogram :  N=38 (=75/2) per group; Type 1 =0.05;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81" name="Picture 4" descr="nomogram"/>
          <p:cNvPicPr/>
          <p:nvPr/>
        </p:nvPicPr>
        <p:blipFill>
          <a:blip r:embed="rId1"/>
          <a:stretch/>
        </p:blipFill>
        <p:spPr>
          <a:xfrm>
            <a:off x="1619280" y="1773360"/>
            <a:ext cx="7261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seful websites (see CBU websit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OVA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98400" indent="-26856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ath.yorku.ca/SCS/Online/power/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98400" indent="-26856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soton.ac.uk/~cpd/anovas/dataset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984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downloadable program from CP 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98400" indent="-26856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put help on above CP Doncaster program: </a:t>
            </a: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http://imaging.mrc-cbu.cam.ac.uk/statswiki/FAQ/Doncaster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984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98400" indent="-26856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danielsoper.com/statcalc/#c1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984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3"/>
              </a:rPr>
              <a:t>http://www.albany.edu/faculty/rfh64/power/power.htm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GENERAL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98400" indent="-26856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4"/>
              </a:rPr>
              <a:t>http://www.aprendelo.com/rec/power-calculator.htm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98400" indent="-26856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calculators.stat.ucla.edu/powercalc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98400" indent="-26856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This site is to not currently available - “check again later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Power computations using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: Type 1 error, Effect Size +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ei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ower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power: output =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sample size: output =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G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EP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READSHE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*Power (versions 2 and 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psycho.uni-duesseldorf.de/aap/projects/gpower/index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lso has a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-line man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ith applications to AN(C)OVAs and chi-squar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rrelations and 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sagebrushpress.com/PEPI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Specif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 Hypothesis - no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ternative Hypothesis -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 a statistical test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ability of a false positive resul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*POWER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3916440" cy="4724640"/>
          </a:xfrm>
          <a:prstGeom prst="rect">
            <a:avLst/>
          </a:prstGeom>
          <a:ln w="0">
            <a:noFill/>
          </a:ln>
        </p:spPr>
      </p:pic>
      <p:sp>
        <p:nvSpPr>
          <p:cNvPr id="194" name="Oval 5"/>
          <p:cNvSpPr/>
          <p:nvPr/>
        </p:nvSpPr>
        <p:spPr>
          <a:xfrm>
            <a:off x="5796000" y="5732640"/>
            <a:ext cx="863640" cy="865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195" name="Straight Arrow Connector 7"/>
          <p:cNvCxnSpPr/>
          <p:nvPr/>
        </p:nvCxnSpPr>
        <p:spPr>
          <a:xfrm>
            <a:off x="3850920" y="5589360"/>
            <a:ext cx="2089800" cy="43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196" name="Oval 8"/>
          <p:cNvSpPr/>
          <p:nvPr/>
        </p:nvSpPr>
        <p:spPr>
          <a:xfrm>
            <a:off x="5867280" y="4581360"/>
            <a:ext cx="865440" cy="863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TextBox 9"/>
          <p:cNvSpPr/>
          <p:nvPr/>
        </p:nvSpPr>
        <p:spPr>
          <a:xfrm>
            <a:off x="6732720" y="4149720"/>
            <a:ext cx="172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ample size required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TextBox 10"/>
          <p:cNvSpPr/>
          <p:nvPr/>
        </p:nvSpPr>
        <p:spPr>
          <a:xfrm>
            <a:off x="6588000" y="580536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lick calculate butt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TextBox 11"/>
          <p:cNvSpPr/>
          <p:nvPr/>
        </p:nvSpPr>
        <p:spPr>
          <a:xfrm>
            <a:off x="324000" y="342900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Enter ingredient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Oval 12"/>
          <p:cNvSpPr/>
          <p:nvPr/>
        </p:nvSpPr>
        <p:spPr>
          <a:xfrm>
            <a:off x="3780000" y="4221000"/>
            <a:ext cx="936360" cy="1152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1" name="Straight Arrow Connector 14"/>
          <p:cNvCxnSpPr>
            <a:stCxn id="199" idx="2"/>
          </p:cNvCxnSpPr>
          <p:nvPr/>
        </p:nvCxnSpPr>
        <p:spPr>
          <a:xfrm>
            <a:off x="1332000" y="4258800"/>
            <a:ext cx="2232720" cy="322920"/>
          </a:xfrm>
          <a:prstGeom prst="straightConnector1">
            <a:avLst/>
          </a:prstGeom>
          <a:ln w="38160">
            <a:solidFill>
              <a:srgbClr val="9a004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an also obtain Cohen’s effect size 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2614680" y="1600200"/>
            <a:ext cx="3914640" cy="4724280"/>
          </a:xfrm>
          <a:prstGeom prst="rect">
            <a:avLst/>
          </a:prstGeom>
          <a:ln w="0">
            <a:noFill/>
          </a:ln>
        </p:spPr>
      </p:pic>
      <p:sp>
        <p:nvSpPr>
          <p:cNvPr id="205" name="TextBox 5"/>
          <p:cNvSpPr/>
          <p:nvPr/>
        </p:nvSpPr>
        <p:spPr>
          <a:xfrm>
            <a:off x="250920" y="306864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Just hover cursor over effect size box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6" name="Straight Arrow Connector 7"/>
          <p:cNvCxnSpPr/>
          <p:nvPr/>
        </p:nvCxnSpPr>
        <p:spPr>
          <a:xfrm flipV="1">
            <a:off x="826920" y="4580640"/>
            <a:ext cx="3314160" cy="7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: uses 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/(1-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2484360" y="1700280"/>
            <a:ext cx="3915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re 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power for regression, chi-squares, t-tests; report summa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c.vanderbilt.edu/prevmed/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wer and Sample Size (PS) downloa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epibiostat.ucsf.edu/biostat/sampsize.html#PC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corporating into a repor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Tables (Kraemer and Thiemann, 1987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 3, group St. Dev = 4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qrt((3/4*3/4)+4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0.35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= 0.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= 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 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polating from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42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by 3; Group sds of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2" name="Object 0"/>
          <p:cNvGraphicFramePr/>
          <p:nvPr/>
        </p:nvGraphicFramePr>
        <p:xfrm>
          <a:off x="457200" y="1960560"/>
          <a:ext cx="8229600" cy="40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60560"/>
                    <a:ext cx="822960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Line 5"/>
          <p:cNvSpPr/>
          <p:nvPr/>
        </p:nvSpPr>
        <p:spPr>
          <a:xfrm>
            <a:off x="1371600" y="3505320"/>
            <a:ext cx="4876920" cy="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5" name="Line 6"/>
          <p:cNvSpPr/>
          <p:nvPr/>
        </p:nvSpPr>
        <p:spPr>
          <a:xfrm>
            <a:off x="358128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6" name="Line 7"/>
          <p:cNvSpPr/>
          <p:nvPr/>
        </p:nvSpPr>
        <p:spPr>
          <a:xfrm>
            <a:off x="624852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nce=4*4=1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=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&gt;=7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if &gt;=5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15.3664*16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27.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3*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8 per group;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a044b"/>
                </a:solidFill>
                <a:latin typeface="Verdana"/>
              </a:rPr>
              <a:t>Power=79%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 sizes (Nomogram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TOTAL number used for equal sample siz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a formula to obtain new TOTAL for unequal groups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Nomogram: unequal group sizes, 90%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=75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tio sizes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 / group 1=2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75x(1+2)x(1+2)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8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4 x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s 29 and 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 (2)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                  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rue situ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eci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No Effect          Effect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Effect      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Type 2 (False ‘-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1-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           (p=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    Type 1 (False ‘+’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=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(p=1-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group sizes:Web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lculator: input any group size and obtain a power 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PI: specify ratio of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:Kraemer &amp; Thieman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equal group sizes : new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= 0.3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rt((3/4*3/4)+4.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up in tables as before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 (Boniface metho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w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11.195*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*si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twice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other formula (90% powe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paired t-test for 2 groups of possibly unequal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SD * SD * (1 + N2/N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_______________________ = sample size i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IFFERENCE IN MEA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our exa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4 * 4 * (1 + 1) / (3*3) = 39 per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 by 3; group sds =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2" name="Object 4"/>
          <p:cNvGraphicFramePr/>
          <p:nvPr/>
        </p:nvGraphicFramePr>
        <p:xfrm>
          <a:off x="461880" y="1965240"/>
          <a:ext cx="821844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1965240"/>
                    <a:ext cx="821844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Line 5"/>
          <p:cNvSpPr/>
          <p:nvPr/>
        </p:nvSpPr>
        <p:spPr>
          <a:xfrm flipV="1">
            <a:off x="1600200" y="2971800"/>
            <a:ext cx="4952880" cy="7632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6"/>
          <p:cNvSpPr/>
          <p:nvPr/>
        </p:nvSpPr>
        <p:spPr>
          <a:xfrm>
            <a:off x="5867280" y="2971800"/>
            <a:ext cx="0" cy="198108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Line 7"/>
          <p:cNvSpPr/>
          <p:nvPr/>
        </p:nvSpPr>
        <p:spPr>
          <a:xfrm>
            <a:off x="6553080" y="2971800"/>
            <a:ext cx="0" cy="205740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=0.90, 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=2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, 2-tailed Type 1 =0.05, sid=3, sd=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mogram &amp; PEPI &amp;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culator &amp;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urves: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38  38   76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9  58   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bles: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   42  42    8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   30  60    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on’e: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m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28 28  56   79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0 40  60   8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fidence Interv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obtain 95% Confidence intervals for effect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symptot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otstra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T VALUES.SAV, POWER DATA.SAV AND NONC SAMPLE T.SAV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_COHENSD_CI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btaining power for ANOVA data using menus in SPS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entire (perhaps, simulated) group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between subjects anovas power can be obtained by asking for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bserved 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n analyze:general linear model:univariate:options or analyze:general linear model:repeated measures:options menus when doing between and repeated measures anovas respective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then added as a column in the ANOVA t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 (2005) suggests only using single df tests to compute power for ANOVAS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imaging.mrc-cbu.cam.ac.uk/statswiki/FAQ/rFiel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nclus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consideration in study feasibility (e.g. in grant proposal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feguards in the case of null resul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ose agreement between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n be boosted using equal sized groups, higher Type 1 error (e.g. 1 tailed tests), larger effect sizes and univariate analyses,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graphicFrame>
        <p:nvGraphicFramePr>
          <p:cNvPr id="271" name="Object 3"/>
          <p:cNvGraphicFramePr/>
          <p:nvPr/>
        </p:nvGraphicFramePr>
        <p:xfrm>
          <a:off x="457200" y="144792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Rectangle 4"/>
          <p:cNvSpPr/>
          <p:nvPr/>
        </p:nvSpPr>
        <p:spPr>
          <a:xfrm>
            <a:off x="457200" y="2133720"/>
            <a:ext cx="2743200" cy="7617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3352680" y="2057400"/>
            <a:ext cx="914400" cy="990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4419720" y="1828800"/>
            <a:ext cx="4419360" cy="106668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one or two-tailed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(significance level)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AutoShape 7"/>
          <p:cNvSpPr/>
          <p:nvPr/>
        </p:nvSpPr>
        <p:spPr>
          <a:xfrm>
            <a:off x="6553080" y="289548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228600" y="38098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8" name="Rectangle 10"/>
          <p:cNvSpPr/>
          <p:nvPr/>
        </p:nvSpPr>
        <p:spPr>
          <a:xfrm>
            <a:off x="0" y="3429000"/>
            <a:ext cx="175248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Rectangle 11"/>
          <p:cNvSpPr/>
          <p:nvPr/>
        </p:nvSpPr>
        <p:spPr>
          <a:xfrm>
            <a:off x="2286000" y="358128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0" name="AutoShape 12"/>
          <p:cNvSpPr/>
          <p:nvPr/>
        </p:nvSpPr>
        <p:spPr>
          <a:xfrm>
            <a:off x="1752480" y="3581280"/>
            <a:ext cx="53352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1" name="Rectangle 13"/>
          <p:cNvSpPr/>
          <p:nvPr/>
        </p:nvSpPr>
        <p:spPr>
          <a:xfrm>
            <a:off x="5715000" y="3581280"/>
            <a:ext cx="2362320" cy="53352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Rectangle 14"/>
          <p:cNvSpPr/>
          <p:nvPr/>
        </p:nvSpPr>
        <p:spPr>
          <a:xfrm>
            <a:off x="2438280" y="4876920"/>
            <a:ext cx="2514600" cy="5331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3" name="Rectangle 15"/>
          <p:cNvSpPr/>
          <p:nvPr/>
        </p:nvSpPr>
        <p:spPr>
          <a:xfrm>
            <a:off x="5715000" y="487692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4" name="AutoShape 16"/>
          <p:cNvSpPr/>
          <p:nvPr/>
        </p:nvSpPr>
        <p:spPr>
          <a:xfrm>
            <a:off x="5029200" y="48769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AutoShape 17"/>
          <p:cNvSpPr/>
          <p:nvPr/>
        </p:nvSpPr>
        <p:spPr>
          <a:xfrm>
            <a:off x="5029200" y="35053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Decide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Rectangle 20"/>
          <p:cNvSpPr/>
          <p:nvPr/>
        </p:nvSpPr>
        <p:spPr>
          <a:xfrm>
            <a:off x="0" y="3733920"/>
            <a:ext cx="16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8" name="Rectangle 21"/>
          <p:cNvSpPr/>
          <p:nvPr/>
        </p:nvSpPr>
        <p:spPr>
          <a:xfrm>
            <a:off x="913680" y="22860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9" name="Rectangle 22"/>
          <p:cNvSpPr/>
          <p:nvPr/>
        </p:nvSpPr>
        <p:spPr>
          <a:xfrm>
            <a:off x="5712120" y="365760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effect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AutoShape 23"/>
          <p:cNvSpPr/>
          <p:nvPr/>
        </p:nvSpPr>
        <p:spPr>
          <a:xfrm>
            <a:off x="6588000" y="414972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veritt BS, 199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Power i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he probability of rejecting the</a:t>
            </a:r>
            <a:r>
              <a:rPr b="0" i="1" lang="en-GB" sz="2400" spc="-1" strike="noStrike">
                <a:solidFill>
                  <a:srgbClr val="9a044b"/>
                </a:solidFill>
                <a:latin typeface="Verdana"/>
              </a:rPr>
              <a:t> null hypothesis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when it is false. Power gives a method of discriminating between competing tests of the same hypotheses, the test with the higher power being preferred.”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fere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berson CL (2010) Applied power analysis for the behavioral sciences. Routledge:London. </a:t>
            </a: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Contains SPSS syntax for a variety of power analyses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ltman DG (1991) Practical Statistics for Medical Research.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niface DR (1995) “Experiment Design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d Statistical Methods for Behavioural and Social Research.”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eld A. (2005) Discovering Statistics using SPSS.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section on power in ANOVA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raemer HC and Thiemann S (1987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“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ow Many Subjects? Statistical Power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alysis in Research.”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 11am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tent variable models: factor analysis and all th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= 1 - 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Error is area in yello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 blue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terion Value is black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creases with Type 1 err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5" descr="norms"/>
          <p:cNvPicPr/>
          <p:nvPr/>
        </p:nvPicPr>
        <p:blipFill>
          <a:blip r:embed="rId1"/>
          <a:stretch/>
        </p:blipFill>
        <p:spPr>
          <a:xfrm>
            <a:off x="4648320" y="2077920"/>
            <a:ext cx="403848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 error (</a:t>
            </a:r>
            <a:r>
              <a:rPr b="1" lang="en-GB" sz="2000" spc="-1" strike="noStrike">
                <a:solidFill>
                  <a:srgbClr val="bababa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reject the “no effect” hypothesis, ie P(false posi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05 or 0.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ze of Type 1 error specified before data collectio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ion of differe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Specified before the data is collected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Two-tail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 is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non-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 = 0 vs Mean </a:t>
            </a:r>
            <a:r>
              <a:rPr b="0" lang="en-GB" sz="2000" spc="-1" strike="noStrike">
                <a:solidFill>
                  <a:srgbClr val="9a044b"/>
                </a:solidFill>
                <a:latin typeface="Symbol"/>
                <a:ea typeface="Symbol"/>
              </a:rPr>
              <a:t>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One-tail 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=0 vs Mean &gt; 0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conclude there is no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hance of a false nega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2 (or even 0.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ing Type 1 error decreases Type 2 error and increases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0:19:37Z</dcterms:created>
  <dc:creator>peter</dc:creator>
  <dc:description/>
  <dc:language>en-US</dc:language>
  <cp:lastModifiedBy>Peter Watson</cp:lastModifiedBy>
  <dcterms:modified xsi:type="dcterms:W3CDTF">2011-12-01T14:57:15Z</dcterms:modified>
  <cp:revision>213</cp:revision>
  <dc:subject/>
  <dc:title>8: SAMPLE SIZE DETERMINATION</dc:title>
</cp:coreProperties>
</file>